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6022-20A8-42B3-BFF3-026865EE4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20880" y="746280"/>
            <a:ext cx="4965480" cy="3725640"/>
          </a:xfrm>
          <a:prstGeom prst="rect">
            <a:avLst/>
          </a:prstGeom>
          <a:ln w="0">
            <a:noFill/>
          </a:ln>
        </p:spPr>
      </p:sp>
      <p:sp>
        <p:nvSpPr>
          <p:cNvPr id="21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2022-5F15-41DD-9DDA-7FAA8B269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FA748-7970-464B-8BD8-B9B4469A6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FBE11-F64E-42CD-BC4B-77D2E6398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BF8E2-8B32-4C9F-97CC-51EE4DE1A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B378E-3EF9-48B7-A334-0126D3C33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74F0E6-43AD-4D34-B640-E86DA64F60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A5F972-519C-4C2A-AC23-96CDCFD273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730EBE-2302-4605-B71F-48FFBCDCDD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C03AC9-F7EA-4314-81BA-D8A4711867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FF42CB-53B2-4948-9D09-A8C398D6DD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0DFD410A-4716-4935-879C-882F32736F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1A83C7-E75B-4144-A464-6191ECD29C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3D4AF-06ED-4065-B09C-AB54B00A4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7E8BA1-BBE0-496F-94A3-26A45A489A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7E4240-3BB7-418C-B3E2-13232D067F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1BD06C-F133-4716-9C24-25C19F696F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6A9F5B-43C2-4531-A932-39B5F2C755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EEC67B-AA0F-4EB6-A545-CD54D405A7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24BC3-87EA-405A-9D68-1A8DAD33B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993C7-91CD-451C-BA4F-C2735B1B2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8FCC7-68BD-4793-971A-D682E0CF3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0182C-ACA2-440E-9136-7D2B60DBA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ED861-82FB-4B18-B69F-29A5B8AC2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FB046-B57E-450E-A8E0-91098744E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6BCC8-4F64-4A5E-BB4E-DBF93FE4A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DA0E3-A53E-43CF-9667-62400AA9F0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221FF88-59CD-41EB-8AC6-C4ADE115A53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0B9E3C3-CC48-4517-94B1-4DC68E7DC6A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9AAC-AAE5-40C0-82CF-F78679607B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rm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ffffff"/>
                </a:solidFill>
                <a:latin typeface="Arial"/>
                <a:ea typeface="Verdana"/>
              </a:rPr>
              <a:t>Identificação de Contact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Sistema de vigilância sindrómic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Ênfase nos centros de transporte e nas fronteira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adro de Gestão de Incident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l formado para liderar a respost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Autoridade para tomar decisões e disponibilizar fundo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Unidade de Tratamento do Ébola (UTE) [mínimo: 1]</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ara </a:t>
            </a:r>
            <a:r>
              <a:rPr b="1" lang="pt-PT" sz="2600" spc="-1" strike="noStrike">
                <a:solidFill>
                  <a:srgbClr val="000000"/>
                </a:solidFill>
                <a:latin typeface="Arial"/>
              </a:rPr>
              <a:t>CASOS CONFIRMAD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extern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riada utilizando orientações da OMS 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7"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Unidade de Contenção/Isolament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solamento de </a:t>
            </a:r>
            <a:r>
              <a:rPr b="1" lang="pt-PT" sz="2200" spc="-1" strike="noStrike">
                <a:solidFill>
                  <a:srgbClr val="000000"/>
                </a:solidFill>
                <a:latin typeface="Arial"/>
              </a:rPr>
              <a:t>CASOS SUSPEIT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fra-estruturas existe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rnece alimentos/necessidades básica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 houver necessidade de novo teste até 72 horas depoi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Tecnologia de Informação [não necessári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rograma EpiInfo V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Gestor de Dad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lataforma para uma fácil partilha de dad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Notificação obrigatória à 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rviços Laboratoriais devem ser identific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necessitam estar no paí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Empacotamento e envio adequados das amostr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o de Hierarquia do Pessoal</a:t>
            </a:r>
            <a:endParaRPr b="0" lang="en-US" sz="4400" spc="-1" strike="noStrike">
              <a:solidFill>
                <a:srgbClr val="000000"/>
              </a:solidFill>
              <a:latin typeface="Arial"/>
            </a:endParaRPr>
          </a:p>
        </p:txBody>
      </p:sp>
      <p:pic>
        <p:nvPicPr>
          <p:cNvPr id="119" name="Diagram 3" descr=""/>
          <p:cNvPicPr/>
          <p:nvPr/>
        </p:nvPicPr>
        <p:blipFill>
          <a:blip r:embed="rId1"/>
          <a:stretch/>
        </p:blipFill>
        <p:spPr>
          <a:xfrm>
            <a:off x="1494000" y="476280"/>
            <a:ext cx="5986440" cy="3589200"/>
          </a:xfrm>
          <a:prstGeom prst="rect">
            <a:avLst/>
          </a:prstGeom>
          <a:ln w="0">
            <a:noFill/>
          </a:ln>
        </p:spPr>
      </p:pic>
      <p:sp>
        <p:nvSpPr>
          <p:cNvPr id="120"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 name="Diagram 7" descr=""/>
          <p:cNvPicPr/>
          <p:nvPr/>
        </p:nvPicPr>
        <p:blipFill>
          <a:blip r:embed="rId2"/>
          <a:stretch/>
        </p:blipFill>
        <p:spPr>
          <a:xfrm>
            <a:off x="914400" y="3743280"/>
            <a:ext cx="6480000" cy="260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quipa de Investigaçã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ntecedentes/Experiência:</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pidemiologistas, peritos em comportamento psicossocial (para problemas relacionados com estigmas e saúde mental) e peritos em comunicação da saúde (para problemas de educação e de trabalho em re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eriência e formação em investigar questões de identificação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Responsabilidades</a:t>
            </a:r>
            <a:r>
              <a:rPr b="0" lang="pt-P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r um caso acerca de potenciai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investigador estiver preocupado com o estado de saúde de um contacto</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r o contacto para determinar se deve ser considerado um caso de EVD</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Se o contacto estiver sintomático e, por isso, seja um caso suspeito, devem alertar o supervisor no terreno</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novo caso for identificado através de outros meios (i.e. unidade de cuidados de saú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Visita domiciliária para identificar todos o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r os contactos acerca do seu estado, do procedimento da identificação de contactos e oferecer apoio</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umerar todos os contactos n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Quantidade: </a:t>
            </a:r>
            <a:r>
              <a:rPr b="0" lang="pt-PT" sz="1800" spc="-1" strike="noStrike">
                <a:solidFill>
                  <a:srgbClr val="000000"/>
                </a:solidFill>
                <a:latin typeface="Arial"/>
              </a:rPr>
              <a:t>mínimo de duas pesso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Resposta Rápida (ERR):</a:t>
            </a:r>
            <a:r>
              <a:rPr b="0" lang="pt-PT"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Igual à Equipa de Investigação; subgrupo da E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sável pelo primeiro caso detectado no paí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serviço 24 horas por dia e 7 dias por seman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a:t>
            </a:r>
            <a:r>
              <a:rPr b="0" lang="pt-PT" sz="2800" spc="-1" strike="noStrike">
                <a:solidFill>
                  <a:srgbClr val="000000"/>
                </a:solidFill>
                <a:latin typeface="Arial"/>
              </a:rPr>
              <a:t> mínimo de duas pesso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8"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pidemiologista-chefe</a:t>
            </a:r>
            <a:r>
              <a:rPr b="0" lang="en-US" sz="2700" spc="-1" strike="noStrike" u="sng">
                <a:solidFill>
                  <a:srgbClr val="000000"/>
                </a:solidFill>
                <a:uFillTx/>
                <a:latin typeface="Arial"/>
              </a:rPr>
              <a:t>:</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do na identificação de contactos a nível nacion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iona todos os supervisores no terren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devem continuar a ser seguid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prioritári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podem ser dispensados do seguime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unica com outros ramos, como a equipa de gestão de casos e a equipa de logística, quando um contacto se torna num caso suspeit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 </a:t>
            </a:r>
            <a:r>
              <a:rPr b="0" lang="pt-PT" sz="2400" spc="-1" strike="noStrike">
                <a:solidFill>
                  <a:srgbClr val="000000"/>
                </a:solidFill>
                <a:latin typeface="Arial"/>
              </a:rPr>
              <a:t>mínimo de uma pessoa a nível naci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Supervisor no Terreno:</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Um epidemiologista com experiência prévia de identificação de contacto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ribuir investigadores a contacto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Lidar com desafios e questões que surgem no terren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ctivar a equipa de investigação para um contacto sintomátic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as medidas de garantia de qualidad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colher dados sobre os actuais esforços de identificação</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a:t>
            </a:r>
            <a:r>
              <a:rPr b="0" lang="pt-PT" sz="2600" spc="-1" strike="noStrike">
                <a:solidFill>
                  <a:srgbClr val="000000"/>
                </a:solidFill>
                <a:latin typeface="Arial"/>
              </a:rPr>
              <a:t>: um supervisor no terreno para cada 5-10 investigadore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Identifica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formação em identificação de contacto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iáveis e responsáveis, com sensibilização cultural</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Visitar os contactos todos os dias durante 21 dia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r / perguntar sobre o estado de saúde do contacto</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Organizar as equipas de identificação por áreas geográficas pode maximizar a eficácia</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Inclui investigadores das comunidades específicas ou vizinhas para aumentar a aceitabilidade das actividades de identificação de contactos entre os residentes da comunidade</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a:t>
            </a:r>
            <a:r>
              <a:rPr b="0" lang="pt-PT" sz="2400" spc="-1" strike="noStrike">
                <a:solidFill>
                  <a:srgbClr val="000000"/>
                </a:solidFill>
                <a:latin typeface="Arial"/>
              </a:rPr>
              <a:t> pelo menos dois investigadores atribuídos a cada equipa</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1 equipa deve observar 10-20 contactos por dia, ou mais, dependendo do lo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4" name=""/>
          <p:cNvSpPr txBox="1"/>
          <p:nvPr/>
        </p:nvSpPr>
        <p:spPr>
          <a:xfrm>
            <a:off x="457200" y="1197000"/>
            <a:ext cx="82296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Gestor de Dados:</a:t>
            </a:r>
            <a:r>
              <a:rPr b="0" lang="pt-PT" sz="3200" spc="-1" strike="noStrike">
                <a:solidFill>
                  <a:srgbClr val="000000"/>
                </a:solidFill>
                <a:latin typeface="Arial"/>
              </a:rPr>
              <a:t>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periência prévia em gestão de dados e competências informáticas proficiente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hecimento da base de dados VHF EpiInfo</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 </a:t>
            </a:r>
            <a:r>
              <a:rPr b="1"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ssegurar que todos os dados são introduzidos electronicamente</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viar relatórios ao epidemiologista-chefe e à OM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upervisionar quem faz a introdução dos dados</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mínimo de uma pessoa</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Equipa de Transportes:</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mpreender o terreno e a geografia</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am formação de prevenção e controlo de infecçõe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ransportar casos suspeitos e casos confirmados identificados para as unidades de isolamento e para as UTE</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Equipada com um veículo de transporte que pode lidar com as precauções relativamente a gotículas e permite a desinfecçã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 </a:t>
            </a:r>
            <a:r>
              <a:rPr b="0" lang="pt-PT" sz="2600" spc="-1" strike="noStrike">
                <a:solidFill>
                  <a:srgbClr val="000000"/>
                </a:solidFill>
                <a:latin typeface="Arial"/>
              </a:rPr>
              <a:t>mínimo de três pessoas numa equipa</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2 para o transporte; 1 conduto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bjectivos de Aprendizagem</a:t>
            </a:r>
            <a:endParaRPr b="0" lang="en-US" sz="44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Geral – os participantes deverão dominar a identificação de contactos como uma parte integrante do controlo eficaz da doença do vírus do Ébola (EVD).</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1 – Aprender definições relacionadas com casos e contactos de doentes com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2 – Compreender como se preparar para 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3 – Compreender a implementação d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4 – Compreender a gestão da identificação de contacto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Intermédio 5 – Rever a forma de manter a garantia de qualidade durante a identificação de contactos relacionados com a EV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Desinfec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mbros da comunida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ncionários ou sanitaristas da saúde ambienta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a formação sobre o controlo da infecção do Ébola</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Responsabilidades:</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sinfecção d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Locais onde se encontravam casos prováveis, suspeitos e confirmados, locais onde ocorreu a identificação inicial e/ou locais de enterro [depen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infecção dos veículos de transporte</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Coordenar com a equipa de transporte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Devem seguir as orientações da OMS e do CDC</a:t>
            </a:r>
            <a:endParaRPr b="0" lang="en-US" sz="1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Quantidade</a:t>
            </a:r>
            <a:r>
              <a:rPr b="0" lang="pt-PT" sz="2700" spc="-1" strike="noStrike">
                <a:solidFill>
                  <a:srgbClr val="000000"/>
                </a:solidFill>
                <a:latin typeface="Arial"/>
              </a:rPr>
              <a:t>: mínimo de dois membros por equipa</a:t>
            </a:r>
            <a:endParaRPr b="0" lang="en-US" sz="2700" spc="-1" strike="noStrike">
              <a:solidFill>
                <a:srgbClr val="000000"/>
              </a:solidFill>
              <a:latin typeface="Arial"/>
            </a:endParaRPr>
          </a:p>
          <a:p>
            <a:pPr lvl="1" marL="743040" indent="-2858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40" name=""/>
          <p:cNvSpPr txBox="1"/>
          <p:nvPr/>
        </p:nvSpPr>
        <p:spPr>
          <a:xfrm>
            <a:off x="457200" y="1197000"/>
            <a:ext cx="8229600" cy="49291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Enterros:</a:t>
            </a:r>
            <a:r>
              <a:rPr b="0" lang="pt-PT" sz="3200" spc="-1" strike="noStrike">
                <a:solidFill>
                  <a:srgbClr val="000000"/>
                </a:solidFill>
                <a:latin typeface="Arial"/>
              </a:rPr>
              <a:t> </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 </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mbros da comunidade</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mbientalistas</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beram a formação sobre o controlo da infecção do Ébola</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terrar os casos prováveis, suspeitos e confirmados falecidos, assim como os contacto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uma equipa de pelo menos 6 pessoa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4 para carregar o corpo, 1 para desinfectar o corpo e 1 condu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Recursos</a:t>
            </a:r>
            <a:endParaRPr b="0" lang="en-US" sz="4400" spc="-1" strike="noStrike">
              <a:solidFill>
                <a:srgbClr val="000000"/>
              </a:solidFill>
              <a:latin typeface="Arial"/>
            </a:endParaRPr>
          </a:p>
        </p:txBody>
      </p:sp>
      <p:graphicFrame>
        <p:nvGraphicFramePr>
          <p:cNvPr id="142" name=""/>
          <p:cNvGraphicFramePr/>
          <p:nvPr/>
        </p:nvGraphicFramePr>
        <p:xfrm>
          <a:off x="587520" y="1125360"/>
          <a:ext cx="8099280" cy="5402520"/>
        </p:xfrm>
        <a:graphic>
          <a:graphicData uri="http://schemas.openxmlformats.org/drawingml/2006/table">
            <a:tbl>
              <a:tblPr/>
              <a:tblGrid>
                <a:gridCol w="1672920"/>
                <a:gridCol w="1119240"/>
                <a:gridCol w="760680"/>
                <a:gridCol w="869760"/>
                <a:gridCol w="768240"/>
                <a:gridCol w="648000"/>
                <a:gridCol w="838080"/>
                <a:gridCol w="812880"/>
                <a:gridCol w="609480"/>
              </a:tblGrid>
              <a:tr h="19260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Equipa de Identificação de Contacto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Outras Equipa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0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pidemiologista-chef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Supervisor no Terren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nvestig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dentific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Gestor de Dad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Transportes</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Desinfec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Enterr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de Protecção Pessoal</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Luvas descartávei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Bata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Protecção Facial (ou ócul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Facial N95/FFP2</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cirúrgica para o cas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acos de plástico para riscos biológ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ecnologia de Informaçã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istema de Posicionamento Mundial </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lemóveis (com carregament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mputadore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erramentas de Recolha de Dados Electrón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no Terren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rmómetr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ateriais de Escritóri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ormulários Apropriad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ransporte</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198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ndutor/Carr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inanciamento</a:t>
            </a:r>
            <a:endParaRPr b="0" lang="en-US" sz="4400" spc="-1" strike="noStrike">
              <a:solidFill>
                <a:srgbClr val="000000"/>
              </a:solidFill>
              <a:latin typeface="Arial"/>
            </a:endParaRPr>
          </a:p>
        </p:txBody>
      </p:sp>
      <p:sp>
        <p:nvSpPr>
          <p:cNvPr id="14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Ordenad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pidemiologista-chef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ores no Terren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nvestigado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Gestor de D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ito psicossoci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dutor (se utilizado)</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quipamento (incluindo diapositivo dos recurs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usto do carregamento dos telemóvei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ulários de impressã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Higienizador de mão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Transporte</a:t>
            </a:r>
            <a:r>
              <a:rPr b="0" lang="pt-PT" sz="2200" spc="-1" strike="noStrike">
                <a:solidFill>
                  <a:srgbClr val="000000"/>
                </a:solidFill>
                <a:latin typeface="Arial"/>
              </a:rPr>
              <a:t> (para supervisores no terreno, investigadores e equipa de investigação)</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áxis (se utiliz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bustível se forem utilizados veículos própr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IMPLEMENTAÇÃO</a:t>
            </a:r>
            <a:endParaRPr b="0" lang="en-US" sz="4000" spc="-1" strike="noStrike">
              <a:solidFill>
                <a:srgbClr val="000000"/>
              </a:solidFill>
              <a:latin typeface="Arial"/>
            </a:endParaRPr>
          </a:p>
        </p:txBody>
      </p:sp>
      <p:sp>
        <p:nvSpPr>
          <p:cNvPr id="14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luxograma</a:t>
            </a:r>
            <a:endParaRPr b="0" lang="en-US" sz="4400" spc="-1" strike="noStrike">
              <a:solidFill>
                <a:srgbClr val="000000"/>
              </a:solidFill>
              <a:latin typeface="Arial"/>
            </a:endParaRPr>
          </a:p>
        </p:txBody>
      </p:sp>
      <p:pic>
        <p:nvPicPr>
          <p:cNvPr id="148" name="Picture 3" descr=""/>
          <p:cNvPicPr/>
          <p:nvPr/>
        </p:nvPicPr>
        <p:blipFill>
          <a:blip r:embed="rId1"/>
          <a:stretch/>
        </p:blipFill>
        <p:spPr>
          <a:xfrm>
            <a:off x="1905120" y="1143000"/>
            <a:ext cx="5637240" cy="556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dentificação de Contactos</a:t>
            </a:r>
            <a:endParaRPr b="0" lang="en-US" sz="4400" spc="-1" strike="noStrike">
              <a:solidFill>
                <a:srgbClr val="000000"/>
              </a:solidFill>
              <a:latin typeface="Arial"/>
            </a:endParaRPr>
          </a:p>
        </p:txBody>
      </p:sp>
      <p:sp>
        <p:nvSpPr>
          <p:cNvPr id="150" name=""/>
          <p:cNvSpPr txBox="1"/>
          <p:nvPr/>
        </p:nvSpPr>
        <p:spPr>
          <a:xfrm>
            <a:off x="457200" y="1197000"/>
            <a:ext cx="8229600" cy="49291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um caso suspeito, provável ou confirmado é inicialmente detectado, a ERR é activada</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Todos os contactos devem ser identificados</a:t>
            </a:r>
            <a:endParaRPr b="0" lang="en-US" sz="28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Questões pertinentes para o caso</a:t>
            </a:r>
            <a:endParaRPr b="0" lang="en-US" sz="24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directa [com o caso vivo]</a:t>
            </a:r>
            <a:endParaRPr b="0" lang="en-US" sz="20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utópsia verbal [com o caso morto]</a:t>
            </a:r>
            <a:endParaRPr b="0" lang="en-US" sz="20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isita domiciliária e à comunidade</a:t>
            </a:r>
            <a:endParaRPr b="0" lang="en-US" sz="24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OTA: podem ser necessárias várias entrevistas ao caso</a:t>
            </a:r>
            <a:endParaRPr b="0" lang="en-US" sz="24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reencher o </a:t>
            </a:r>
            <a:r>
              <a:rPr b="1" lang="pt-PT" sz="2800" spc="-1" strike="noStrike">
                <a:solidFill>
                  <a:srgbClr val="000000"/>
                </a:solidFill>
                <a:latin typeface="Arial"/>
              </a:rPr>
              <a:t>Formulário para a Lista de Contac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2"/>
          <p:cNvSpPr/>
          <p:nvPr/>
        </p:nvSpPr>
        <p:spPr>
          <a:xfrm>
            <a:off x="1856160" y="5157720"/>
            <a:ext cx="660456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 Tipos de Contac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1 = Tocou em fluídos corporais do doente (sangue, vómito, saliva, urina, fezes, esperma, su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2 = Teve contacto físico directo com o corpo do doente (vivo ou mor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3 = Tocou ou limpou os lençóis, vestuários ou louça do do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4 = Dormiu ou comeu na mesma casa que o doente</a:t>
            </a:r>
            <a:endParaRPr b="0" lang="en-US" sz="1200" spc="-1" strike="noStrike">
              <a:solidFill>
                <a:srgbClr val="000000"/>
              </a:solidFill>
              <a:latin typeface="Arial"/>
            </a:endParaRPr>
          </a:p>
        </p:txBody>
      </p:sp>
      <p:sp>
        <p:nvSpPr>
          <p:cNvPr id="152" name="TextBox 3"/>
          <p:cNvSpPr/>
          <p:nvPr/>
        </p:nvSpPr>
        <p:spPr>
          <a:xfrm>
            <a:off x="1246680" y="25560"/>
            <a:ext cx="674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ORMULÁRIO PARA A LISTA DE CONTACTOS COM ÉBOLA</a:t>
            </a:r>
            <a:endParaRPr b="0" lang="en-US" sz="1800" spc="-1" strike="noStrike">
              <a:solidFill>
                <a:srgbClr val="000000"/>
              </a:solidFill>
              <a:latin typeface="Arial"/>
            </a:endParaRPr>
          </a:p>
        </p:txBody>
      </p:sp>
      <p:graphicFrame>
        <p:nvGraphicFramePr>
          <p:cNvPr id="153" name="Object 4"/>
          <p:cNvGraphicFramePr/>
          <p:nvPr/>
        </p:nvGraphicFramePr>
        <p:xfrm>
          <a:off x="222120" y="425520"/>
          <a:ext cx="8810640" cy="5748120"/>
        </p:xfrm>
        <a:graphic>
          <a:graphicData uri="http://schemas.openxmlformats.org/presentationml/2006/ole">
            <p:oleObj r:id="rId1" spid="">
              <p:embed/>
              <p:pic>
                <p:nvPicPr>
                  <p:cNvPr id="154" name="Object 4" descr=""/>
                  <p:cNvPicPr/>
                  <p:nvPr/>
                </p:nvPicPr>
                <p:blipFill>
                  <a:blip r:embed="rId2"/>
                  <a:stretch/>
                </p:blipFill>
                <p:spPr>
                  <a:xfrm>
                    <a:off x="222120" y="425520"/>
                    <a:ext cx="8810640" cy="57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Lista de Contactos</a:t>
            </a:r>
            <a:endParaRPr b="0" lang="en-US" sz="4400" spc="-1" strike="noStrike">
              <a:solidFill>
                <a:srgbClr val="000000"/>
              </a:solidFill>
              <a:latin typeface="Arial"/>
            </a:endParaRPr>
          </a:p>
        </p:txBody>
      </p:sp>
      <p:sp>
        <p:nvSpPr>
          <p:cNvPr id="156"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Contactos entrevistados pela equipa de investigação</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rguntar a última data de contacto com o cas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Se houver discrepância, utilizar a data mais re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o estado de exposiçã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
            </a:r>
            <a:r>
              <a:rPr b="0" lang="pt-PT" sz="2200" spc="-1" strike="noStrike">
                <a:solidFill>
                  <a:srgbClr val="000000"/>
                </a:solidFill>
                <a:latin typeface="Arial"/>
              </a:rPr>
              <a:t>Elevado’, ‘baixo’, ou ‘sem risco’</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Pessoas de Risco ‘Elevado” e ‘Baixo’ irão necessitar de seguiment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ontactos assintomáticos podem continuar com as suas actividades diárias se tiverem um acesso atempado a instalações de cuidados de saúde caso fiquem doentes</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Depois de ser considerado um caso…</a:t>
            </a:r>
            <a:endParaRPr b="0" lang="en-US" sz="4000" spc="-1" strike="noStrike">
              <a:solidFill>
                <a:srgbClr val="000000"/>
              </a:solidFill>
              <a:latin typeface="Arial"/>
            </a:endParaRPr>
          </a:p>
        </p:txBody>
      </p:sp>
      <p:sp>
        <p:nvSpPr>
          <p:cNvPr id="15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ocorrer o seguin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é notificado do seu esta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É explicado o procedimento de seguimen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ducar acerca da EV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informações de contacto para a equipa de identificaçã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ar-lhes instruções para notificarem a equipa se se mudarem ou deixarem a área geográfic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DEFINIÇÕES</a:t>
            </a:r>
            <a:endParaRPr b="0" lang="en-US" sz="4000" spc="-1" strike="noStrike">
              <a:solidFill>
                <a:srgbClr val="000000"/>
              </a:solidFill>
              <a:latin typeface="Arial"/>
            </a:endParaRPr>
          </a:p>
        </p:txBody>
      </p:sp>
      <p:sp>
        <p:nvSpPr>
          <p:cNvPr id="10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 um contacto ficar doen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0" name=""/>
          <p:cNvSpPr txBox="1"/>
          <p:nvPr/>
        </p:nvSpPr>
        <p:spPr>
          <a:xfrm>
            <a:off x="457200" y="1197000"/>
            <a:ext cx="8229600" cy="49291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estado é alterado para </a:t>
            </a:r>
            <a:r>
              <a:rPr b="1" lang="pt-PT" sz="3200" spc="-1" strike="noStrike">
                <a:solidFill>
                  <a:srgbClr val="000000"/>
                </a:solidFill>
                <a:latin typeface="Arial"/>
              </a:rPr>
              <a:t>CASO SUSPEITO</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equipa de investigação contacta o supervisor no terreno</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ão activadas as equipas de transportes e desinfecção</a:t>
            </a:r>
            <a:endParaRPr b="0" lang="en-US" sz="28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Transportado para uma unidade de isolamento para ser analisado</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É necessário iniciar a identificação de contactos e listar os contactos para este novo caso</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guimento do Contacto</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Visitas diárias da equipa de identificação durante 21 dias</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Local e hora pré-determin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preferência, a mesma equipa durante todo o tempo</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ssegura uma continuidade e confiança</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dentifica nuances da rotina diária do contacto</a:t>
            </a:r>
            <a:endParaRPr b="0" lang="en-US" sz="20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alguns contactos não forem encontrados, devem ser notificados ao supervisor no terreno</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gistar esta informação no </a:t>
            </a:r>
            <a:r>
              <a:rPr b="1" lang="pt-PT" sz="2400" spc="-1" strike="noStrike">
                <a:solidFill>
                  <a:srgbClr val="000000"/>
                </a:solidFill>
                <a:latin typeface="Arial"/>
              </a:rPr>
              <a:t>Formulário de Resumo da Identificação</a:t>
            </a:r>
            <a:endParaRPr b="0" lang="en-US" sz="24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O Supervisor no Terreno notifica: </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Gestor de D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Epidemiologista-che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Resumo da Identificação (para os Supervisores no Terreno</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64" name="Picture 3" descr=""/>
          <p:cNvPicPr/>
          <p:nvPr/>
        </p:nvPicPr>
        <p:blipFill>
          <a:blip r:embed="rId1"/>
          <a:stretch/>
        </p:blipFill>
        <p:spPr>
          <a:xfrm>
            <a:off x="1828800" y="1125360"/>
            <a:ext cx="5413320" cy="504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Cenários da Visita Diária</a:t>
            </a:r>
            <a:endParaRPr b="0" lang="en-US" sz="4000" spc="-1" strike="noStrike">
              <a:solidFill>
                <a:srgbClr val="000000"/>
              </a:solidFill>
              <a:latin typeface="Arial"/>
            </a:endParaRPr>
          </a:p>
        </p:txBody>
      </p:sp>
      <p:pic>
        <p:nvPicPr>
          <p:cNvPr id="166" name="Content Placeholder 2" descr=""/>
          <p:cNvPicPr/>
          <p:nvPr/>
        </p:nvPicPr>
        <p:blipFill>
          <a:blip r:embed="rId1"/>
          <a:stretch/>
        </p:blipFill>
        <p:spPr>
          <a:xfrm>
            <a:off x="371520" y="1073160"/>
            <a:ext cx="8315280" cy="5052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Novas advertências de casos suspeitos</a:t>
            </a:r>
            <a:endParaRPr b="0" lang="en-US" sz="4400" spc="-1" strike="noStrike">
              <a:solidFill>
                <a:srgbClr val="000000"/>
              </a:solidFill>
              <a:latin typeface="Arial"/>
            </a:endParaRPr>
          </a:p>
        </p:txBody>
      </p:sp>
      <p:sp>
        <p:nvSpPr>
          <p:cNvPr id="16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estiver doente há mais de 3 dia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em isolamento até à repetição do teste no 3º dia</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POSI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É agora classificado como CASO CONFIRMAD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nsportado para a U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 equipa de investigação continua com a identificação de contactos deste caso</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NEGA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lassificado como um contac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com o processo anterior de seguimento de 21 di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
          <p:cNvGraphicFramePr/>
          <p:nvPr/>
        </p:nvGraphicFramePr>
        <p:xfrm>
          <a:off x="179280" y="2492280"/>
          <a:ext cx="8502840" cy="3672000"/>
        </p:xfrm>
        <a:graphic>
          <a:graphicData uri="http://schemas.openxmlformats.org/drawingml/2006/table">
            <a:tbl>
              <a:tblPr/>
              <a:tblGrid>
                <a:gridCol w="874800"/>
                <a:gridCol w="361800"/>
                <a:gridCol w="363600"/>
                <a:gridCol w="363600"/>
                <a:gridCol w="363600"/>
                <a:gridCol w="363600"/>
                <a:gridCol w="363600"/>
                <a:gridCol w="363240"/>
                <a:gridCol w="362160"/>
                <a:gridCol w="363600"/>
                <a:gridCol w="363600"/>
                <a:gridCol w="363240"/>
                <a:gridCol w="363600"/>
                <a:gridCol w="362160"/>
                <a:gridCol w="363240"/>
                <a:gridCol w="363600"/>
                <a:gridCol w="363600"/>
                <a:gridCol w="363600"/>
                <a:gridCol w="361800"/>
                <a:gridCol w="363600"/>
                <a:gridCol w="363600"/>
                <a:gridCol w="36360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a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Feb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Indisposiçã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muscula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cabeç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gargan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Vómito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iarrei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Erupção cutâne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Hemorragia (sangramento não explicad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TextBox 2"/>
          <p:cNvSpPr/>
          <p:nvPr/>
        </p:nvSpPr>
        <p:spPr>
          <a:xfrm>
            <a:off x="455400" y="1197000"/>
            <a:ext cx="9573120" cy="11750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Nome: _______________________________________        Sexo:_______      Idade:  _______          Data do último contacto (dd/mm/aa):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Morada:______________________________________        Telef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Instruções: Para cada dia, avaliar o contacto para os sintomas seguintes e escrever “sim” se o contacto possuir o sintoma e “não” se o contacto não possuir o sintoma.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Se o contacto possuir algum dos sintomas, chamar imediatamente o departamento de saúde pública através do número XXX-XXX-XXXX. </a:t>
            </a:r>
            <a:endParaRPr b="0" lang="en-US" sz="1000" spc="-1" strike="noStrike">
              <a:solidFill>
                <a:srgbClr val="000000"/>
              </a:solidFill>
              <a:latin typeface="Arial"/>
            </a:endParaRPr>
          </a:p>
        </p:txBody>
      </p:sp>
      <p:sp>
        <p:nvSpPr>
          <p:cNvPr id="171"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Seguimento Diário dos Contacto (para os Investigado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Alta do Contacto</a:t>
            </a:r>
            <a:endParaRPr b="0" lang="en-US" sz="4400" spc="-1" strike="noStrike">
              <a:solidFill>
                <a:srgbClr val="000000"/>
              </a:solidFill>
              <a:latin typeface="Arial"/>
            </a:endParaRPr>
          </a:p>
        </p:txBody>
      </p:sp>
      <p:sp>
        <p:nvSpPr>
          <p:cNvPr id="17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seguintes critérios forem satisfeitos ao 21º dia, o contacto recebe alta do processo de identificaçã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am realizados 21 dias de seguimento por parte da equipa de contac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foi avaliado ao 21º d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não estiver disponível, a alta não pode ocorrer até que o contacto seja avali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Arial"/>
              </a:rPr>
              <a:t>Identificação Inicial do Ca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caso de Ébola é identificado pelo sistema de vigilânc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é activad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entrevista o caso utilizando o </a:t>
            </a:r>
            <a:r>
              <a:rPr b="1" lang="pt-PT" sz="1800" spc="-1" strike="noStrike">
                <a:solidFill>
                  <a:srgbClr val="000000"/>
                </a:solidFill>
                <a:latin typeface="Arial"/>
              </a:rPr>
              <a:t>Questionário de Contactos do Caso de Doença do Vírus do Ébola </a:t>
            </a:r>
            <a:r>
              <a:rPr b="0" lang="pt-PT" sz="1800" spc="-1" strike="noStrike">
                <a:solidFill>
                  <a:srgbClr val="000000"/>
                </a:solidFill>
                <a:latin typeface="Arial"/>
              </a:rPr>
              <a:t>e realiza uma visita domiciliária para determinar a lista de contac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reúne-se com cada um dos contactos e realiza o seguint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estado de saúde d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 o contacto para o seu est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 o contacto com o </a:t>
            </a:r>
            <a:r>
              <a:rPr b="1" lang="pt-PT" sz="1500" spc="-1" strike="noStrike">
                <a:solidFill>
                  <a:srgbClr val="000000"/>
                </a:solidFill>
                <a:latin typeface="Arial"/>
              </a:rPr>
              <a:t>Questionário de Contactos do Caso de Doença do Vírus do É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lica o procedimento de ser acompanhado diariamente durante 21 di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risco de fuga do indivídu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Identifica um local e hora apropriados para uma reunião com 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epara 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distribui supervisores no terreno com base na distribuição geográfica dos contac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 DIARIAMENTE</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u="sng">
                <a:solidFill>
                  <a:srgbClr val="000000"/>
                </a:solidFill>
                <a:uFillTx/>
                <a:latin typeface="Arial"/>
              </a:rPr>
              <a:t>Diariament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6.     O epidemiologista-chefe distribui uma lista de contactos actualizada aos supervisores no terreno.</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Os supervisores no terreno reúnem-se com as suas equipas de identificação e distribuem a lista para cada equipa, agrupando os contactos pela proximidade geográfica.</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8.     Os investigadores reúnem-se com cada um dos contactos e realizam as seguintes tarefa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Observação da condição geral do contacto para qualquer sinal explícito da doenç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ao contacto relativamente ao seu estado de saúde (presença ou ausência de sintomas específic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eencher o </a:t>
            </a:r>
            <a:r>
              <a:rPr b="1" lang="pt-PT" sz="2000" spc="-1" strike="noStrike">
                <a:solidFill>
                  <a:srgbClr val="000000"/>
                </a:solidFill>
                <a:latin typeface="Arial"/>
              </a:rPr>
              <a:t>Formulário de Seguimento dos Contac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guntar se conhecem mais alguém que esteja do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Resumo dos Passos: DIARIAMENTE</a:t>
            </a:r>
            <a:br>
              <a:rPr sz="3600"/>
            </a:br>
            <a:r>
              <a:rPr b="0" lang="pt-PT" sz="3600" spc="-1" strike="noStrike">
                <a:solidFill>
                  <a:srgbClr val="000000"/>
                </a:solidFill>
                <a:latin typeface="Arial"/>
              </a:rPr>
              <a:t>(Guia Passo a Passo)</a:t>
            </a:r>
            <a:endParaRPr b="0" lang="en-US" sz="3600" spc="-1" strike="noStrike">
              <a:solidFill>
                <a:srgbClr val="000000"/>
              </a:solidFill>
              <a:latin typeface="Arial"/>
            </a:endParaRPr>
          </a:p>
        </p:txBody>
      </p:sp>
      <p:sp>
        <p:nvSpPr>
          <p:cNvPr id="179" name=""/>
          <p:cNvSpPr txBox="1"/>
          <p:nvPr/>
        </p:nvSpPr>
        <p:spPr>
          <a:xfrm>
            <a:off x="468360" y="1916280"/>
            <a:ext cx="8229600" cy="403200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9.    Enquanto as equipas de identificação avaliam os contactos, o supervisor no terreno fornec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poio logístico, incluindo a providência de transporte para as equipas de identificação e assegura o pagamen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ção da equipa de investigação para qualquer contacto que os investigadores identifiquem como tendo apresentado sintom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Garantia de qualidade para assegurar a precisão dos relatórios dos investigadores.</a:t>
            </a:r>
            <a:endParaRPr b="0" lang="en-US" sz="1500" spc="-1" strike="noStrike">
              <a:solidFill>
                <a:srgbClr val="000000"/>
              </a:solidFill>
              <a:latin typeface="Arial"/>
            </a:endParaRPr>
          </a:p>
          <a:p>
            <a:pPr>
              <a:lnSpc>
                <a:spcPct val="80000"/>
              </a:lnSpc>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o final do dia, os investigadores contactam os seus supervisores no terreno e notificam o estado dos seus contactos.</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supervisores no terreno completam o </a:t>
            </a:r>
            <a:r>
              <a:rPr b="1" lang="pt-PT" sz="1800" spc="-1" strike="noStrike">
                <a:solidFill>
                  <a:srgbClr val="000000"/>
                </a:solidFill>
                <a:latin typeface="Arial"/>
              </a:rPr>
              <a:t>Formulário de Resumo da Identificação </a:t>
            </a:r>
            <a:r>
              <a:rPr b="0" lang="pt-PT" sz="1800" spc="-1" strike="noStrike">
                <a:solidFill>
                  <a:srgbClr val="000000"/>
                </a:solidFill>
                <a:latin typeface="Arial"/>
              </a:rPr>
              <a:t>com base na informação fornecida pelos investigadores e equipa de investigação e os dados são enviados tanto para o epidemiologista-chefe como para o gestor de dados.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2.    O gestor de dados ou pessoal de registo de dados inserem os dados electronicamente.</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revê os dados e prepara a lista de contactos actuais/contínuos para o dia seguinte.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Noções básicas da Identificação de Conta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FINIÇÃO: o processo de identificar, controlar e gerir a EVD para eliminar a transmissã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guimento sistemático durante 21 dias após a data do último contac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eríodo máximo de incub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ÃO DA IDENTIFICAÇÃO DE CONTACTOS</a:t>
            </a:r>
            <a:endParaRPr b="0" lang="en-US" sz="4000" spc="-1" strike="noStrike">
              <a:solidFill>
                <a:srgbClr val="000000"/>
              </a:solidFill>
              <a:latin typeface="Arial"/>
            </a:endParaRPr>
          </a:p>
        </p:txBody>
      </p:sp>
      <p:sp>
        <p:nvSpPr>
          <p:cNvPr id="18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estão de Dados</a:t>
            </a:r>
            <a:endParaRPr b="0" lang="en-US" sz="4400" spc="-1" strike="noStrike">
              <a:solidFill>
                <a:srgbClr val="000000"/>
              </a:solidFill>
              <a:latin typeface="Arial"/>
            </a:endParaRPr>
          </a:p>
        </p:txBody>
      </p:sp>
      <p:sp>
        <p:nvSpPr>
          <p:cNvPr id="18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Regista a informação relativamente a casos e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Produz relatórios diários, exportando-os para a análise de dad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Mapeamento geográfico dos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ificação atempada de dados e tendência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 existirem recursos e/ou infra-estruturas suficient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considerada uma recolha de dados electrónicos no terreno</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A: Embora a Base de Dados VHF EpiInfo seja recomendada, outras bases de dados, como o Sistema de Gestão da Informação no Terreno da OMS (FIMS), podem ser também utilizada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Contratação</a:t>
            </a:r>
            <a:endParaRPr b="0" lang="en-US" sz="4400" spc="-1" strike="noStrike">
              <a:solidFill>
                <a:srgbClr val="000000"/>
              </a:solidFill>
              <a:latin typeface="Arial"/>
            </a:endParaRPr>
          </a:p>
        </p:txBody>
      </p:sp>
      <p:sp>
        <p:nvSpPr>
          <p:cNvPr id="18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r incentivos para particip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os ordena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seguro de saú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EPP ao pessoal e às suas famíli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mpregar os sobreviventes da EV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gar ao pessoal atempada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Formação</a:t>
            </a:r>
            <a:endParaRPr b="0" lang="en-US" sz="4400" spc="-1" strike="noStrike">
              <a:solidFill>
                <a:srgbClr val="000000"/>
              </a:solidFill>
              <a:latin typeface="Arial"/>
            </a:endParaRPr>
          </a:p>
        </p:txBody>
      </p:sp>
      <p:sp>
        <p:nvSpPr>
          <p:cNvPr id="187" name=""/>
          <p:cNvSpPr txBox="1"/>
          <p:nvPr/>
        </p:nvSpPr>
        <p:spPr>
          <a:xfrm>
            <a:off x="457200" y="1197000"/>
            <a:ext cx="8229600" cy="49291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trabalhadores necessitam de uma formação apropriada e de recursos para realizarem o seu trabalho de forma segura</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pel específico para o membro do pessoal</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Formação de reciclagem</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Nova formação caso ocorram problemas ou existam alterações aos procedimentos operacionai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ertificado formal de conclusão</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ra combater as diferenças de po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Saúde</a:t>
            </a:r>
            <a:endParaRPr b="0" lang="en-US" sz="4400" spc="-1" strike="noStrike">
              <a:solidFill>
                <a:srgbClr val="000000"/>
              </a:solidFill>
              <a:latin typeface="Arial"/>
            </a:endParaRPr>
          </a:p>
        </p:txBody>
      </p:sp>
      <p:sp>
        <p:nvSpPr>
          <p:cNvPr id="18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Fornecer cuidados médicos enquanto empreg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cluindo para a EVD</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Deve ser abordado e rigorosamente aplicado o seguint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entrar em comunidades que aparentam ser hostis, agressivas ou pouco acolhedor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tentar impedir os contactos ou casos que estão a tentar fugir</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notado que se os profissionais de segurança interagirem com casos suspeitos, prováveis ou confirmados, dependendo da situação, podem também corresponder à definição de contacto, necessitando por isso de um seguimento**</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Identificação</a:t>
            </a:r>
            <a:endParaRPr b="0" lang="en-US" sz="4400" spc="-1" strike="noStrike">
              <a:solidFill>
                <a:srgbClr val="000000"/>
              </a:solidFill>
              <a:latin typeface="Arial"/>
            </a:endParaRPr>
          </a:p>
        </p:txBody>
      </p:sp>
      <p:sp>
        <p:nvSpPr>
          <p:cNvPr id="19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estões pertinentes a serem perguntada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físico direct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sexual</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viam com o caso na mesma habitaçã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sitaram o caso (na habitação, unidade de saúde, funeral/enterro,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que o caso visitou (i.e. trabalho, farmácia, igreja, família alargada, curandeiros tradicionais,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Instalações de saúde utilizadas pelo caso e por todos os profissionais de saúde que trataram do cas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onsiderações para a Identificação do Contacto</a:t>
            </a:r>
            <a:endParaRPr b="0" lang="en-US" sz="3600" spc="-1" strike="noStrike">
              <a:solidFill>
                <a:srgbClr val="000000"/>
              </a:solidFill>
              <a:latin typeface="Arial"/>
            </a:endParaRPr>
          </a:p>
        </p:txBody>
      </p:sp>
      <p:sp>
        <p:nvSpPr>
          <p:cNvPr id="19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calendários, feriados ou aniversários para ajudar na lembrança de activ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os casos suspeitos, prováveis ou confirmados são notificados do seu estado, medo é a resposta mais prová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poio psicossocial na equipa de investig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sensibilidade cultu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Desafios da Inscrição</a:t>
            </a:r>
            <a:endParaRPr b="0" lang="en-US" sz="4400" spc="-1" strike="noStrike">
              <a:solidFill>
                <a:srgbClr val="000000"/>
              </a:solidFill>
              <a:latin typeface="Arial"/>
            </a:endParaRPr>
          </a:p>
        </p:txBody>
      </p:sp>
      <p:sp>
        <p:nvSpPr>
          <p:cNvPr id="19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safios logístic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alta de nomes de ru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Utilização de alcunh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íses sem um programa nacional de identific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çõ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Identificação do contacto através de G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nvolver os líderes da comunid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Estigma</a:t>
            </a:r>
            <a:endParaRPr b="0" lang="en-US" sz="4400" spc="-1" strike="noStrike">
              <a:solidFill>
                <a:srgbClr val="000000"/>
              </a:solidFill>
              <a:latin typeface="Arial"/>
            </a:endParaRPr>
          </a:p>
        </p:txBody>
      </p:sp>
      <p:sp>
        <p:nvSpPr>
          <p:cNvPr id="19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Medidas para ultrapassar o estigm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Envolver e educar os líderes da comunidade relativamente à infecção e transmissão da EVD e sobre o papel da comunidad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campanhas de comunicação da saúde precoc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apoio psicossocial precoce para combater o medo</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um local/hora de reunião “seguro” que não irá identificá-los como um contacto de EVD para os seus pares, família e/ou comunidad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RANTIA E GESTÃO DE QUALIDADE</a:t>
            </a:r>
            <a:endParaRPr b="0" lang="en-US" sz="4000" spc="-1" strike="noStrike">
              <a:solidFill>
                <a:srgbClr val="000000"/>
              </a:solidFill>
              <a:latin typeface="Arial"/>
            </a:endParaRPr>
          </a:p>
        </p:txBody>
      </p:sp>
      <p:sp>
        <p:nvSpPr>
          <p:cNvPr id="19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Objectivos da Identificação de Contactos</a:t>
            </a:r>
            <a:endParaRPr b="0" lang="en-US" sz="40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Identificação imediata de indivíduos que ficam sintomáticos e, por isso, contagios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rar a transmissão da EV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e implementada rapidamente e de forma adequ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1"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Equipa de Investigação/Equipa de Resposta Rápida/Epidemiologista-chef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casos com um baixo número de notificações de contact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r cauteloso quando os números não correspondem aos de casos anteriores com características semelhant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novas entrevistas ao caso, família, vizinhos, et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incitar actividades adicionais do dia a dia</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Assegurar avaliações precisas do estado de saúde de um contacto por parte dos investigador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 verificações domiciliárias através da escolha aleatória de contactos de diferentes equipas de identificação para entrevistar e verificar se a avaliação do estado de saúde é semelhante aos relatórios dos investigado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3" name=""/>
          <p:cNvSpPr txBox="1"/>
          <p:nvPr/>
        </p:nvSpPr>
        <p:spPr>
          <a:xfrm>
            <a:off x="457200" y="1197000"/>
            <a:ext cx="8229600" cy="49291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upervisor(es) no terreno</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ssegurar que os investigadores visitam os contactos diariamente</a:t>
            </a:r>
            <a:endParaRPr b="0" lang="en-US" sz="28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 tecnologia estiver disponível, utilizar uma identificação móvel através de GPS para a identificação de contactos</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propriado, tirar uma fotografia do contacto ou de um marco local para entregar diariamente ao técnico no terreno</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alizar verificações domiciliárias através da escolha aleatória de contactos de diferentes equipas de identificação e entrevistá-los para assegurar que recebem diariamente a visita do investigador</a:t>
            </a:r>
            <a:endParaRPr b="0" lang="en-US" sz="2400" spc="-1" strike="noStrike">
              <a:solidFill>
                <a:srgbClr val="000000"/>
              </a:solidFill>
              <a:latin typeface="Arial"/>
            </a:endParaRPr>
          </a:p>
          <a:p>
            <a:pPr lvl="3" marL="137592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 </a:t>
            </a:r>
            <a:r>
              <a:rPr b="0" lang="pt-PT" sz="2000" spc="-1" strike="noStrike">
                <a:solidFill>
                  <a:srgbClr val="000000"/>
                </a:solidFill>
                <a:latin typeface="Arial"/>
              </a:rPr>
              <a:t>Se houve falha de dias, confirmar que estes foram devidamente registados pela equipa de identificação.</a:t>
            </a:r>
            <a:endParaRPr b="0" lang="en-US" sz="20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Medidas de Qualidade: Devem ser 100%</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clusão dos relatórios de vigilância activa semana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a serem identificados diaria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seguidos durante todos os 21 di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asos que viram a identificação de contactos implementada até 24 horas após a identificação do ca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ESCALABILIDADE</a:t>
            </a:r>
            <a:endParaRPr b="0" lang="en-US" sz="4000" spc="-1" strike="noStrike">
              <a:solidFill>
                <a:srgbClr val="000000"/>
              </a:solidFill>
              <a:latin typeface="Arial"/>
            </a:endParaRPr>
          </a:p>
        </p:txBody>
      </p:sp>
      <p:sp>
        <p:nvSpPr>
          <p:cNvPr id="2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0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contactos não são identificados/são perdidos, a transmissão exponencial da EVD é provável</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protocolo de identificação de contactos deve incluir:</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equipas de investigação, supervisores no terreno e investigadores de contacto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sforços concentrados principalmente nos grupos de risco elevado</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11"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ser considera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pesso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as infra-estrutur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dquirir mais recur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riar equipas adicionais para acomodar os crescentes esforços de controlo (i.e. equipas de desinfecção ou de enterr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Mudança de Foco</a:t>
            </a:r>
            <a:endParaRPr b="0" lang="en-US" sz="4400" spc="-1" strike="noStrike">
              <a:solidFill>
                <a:srgbClr val="000000"/>
              </a:solidFill>
              <a:latin typeface="Arial"/>
            </a:endParaRPr>
          </a:p>
        </p:txBody>
      </p:sp>
      <p:sp>
        <p:nvSpPr>
          <p:cNvPr id="21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esforços podem começar a se centrar principalmente nos grupos de contacto de </a:t>
            </a:r>
            <a:r>
              <a:rPr b="1" lang="pt-PT" sz="3200" spc="-1" strike="noStrike">
                <a:solidFill>
                  <a:srgbClr val="000000"/>
                </a:solidFill>
                <a:latin typeface="Arial"/>
              </a:rPr>
              <a:t>risco elevado</a:t>
            </a:r>
            <a:r>
              <a:rPr b="0" lang="pt-PT" sz="3200" spc="-1" strike="noStrike">
                <a:solidFill>
                  <a:srgbClr val="000000"/>
                </a:solidFill>
                <a:latin typeface="Arial"/>
              </a:rPr>
              <a:t>, de modo a poupar recursos directos de forma apropri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classificação de risco dos contactos têm como base as orientações do CD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ÃO</a:t>
            </a:r>
            <a:endParaRPr b="0" lang="en-US" sz="4000" spc="-1" strike="noStrike">
              <a:solidFill>
                <a:srgbClr val="000000"/>
              </a:solidFill>
              <a:latin typeface="Arial"/>
            </a:endParaRPr>
          </a:p>
        </p:txBody>
      </p:sp>
      <p:sp>
        <p:nvSpPr>
          <p:cNvPr id="21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clusão</a:t>
            </a:r>
            <a:endParaRPr b="0" lang="en-US" sz="4400" spc="-1" strike="noStrike">
              <a:solidFill>
                <a:srgbClr val="000000"/>
              </a:solidFill>
              <a:latin typeface="Arial"/>
            </a:endParaRPr>
          </a:p>
        </p:txBody>
      </p:sp>
      <p:sp>
        <p:nvSpPr>
          <p:cNvPr id="217" name=""/>
          <p:cNvSpPr txBox="1"/>
          <p:nvPr/>
        </p:nvSpPr>
        <p:spPr>
          <a:xfrm>
            <a:off x="457200" y="1197000"/>
            <a:ext cx="8229600" cy="49291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identificação de contactos é essencial para a identificação, controlo e eliminação da transmissão da EV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apenas um contacto não é encontrado, existe uma grande probabilidade de uma transmissão contínua</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É fundamental que a identificação de contactos seja implementada rapidamente e gerida de forma a que a resposta à EVD seja efica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Definições: CONTACTO</a:t>
            </a:r>
            <a:endParaRPr b="0" lang="en-US" sz="4400" spc="-1" strike="noStrike">
              <a:solidFill>
                <a:srgbClr val="000000"/>
              </a:solidFill>
              <a:latin typeface="Arial"/>
            </a:endParaRPr>
          </a:p>
        </p:txBody>
      </p:sp>
      <p:sp>
        <p:nvSpPr>
          <p:cNvPr id="10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O*:</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ma pessoa que interagiu com um caso sintomático de EVD (suspeito, provável ou confirmado) em pelo menos uma das seguintes formas:</a:t>
            </a:r>
            <a:endParaRPr b="0" lang="en-US" sz="26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ou viv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no funeral</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o sangue ou fluídos corporais do cas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i amamentado pela doente (nos bebés)</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as roupas ou lençóis do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ormiu na mesma habitação que um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finições: CONTACTO</a:t>
            </a:r>
            <a:r>
              <a:rPr b="0" lang="pt-PT" sz="2400" spc="-1" strike="noStrike" baseline="30000">
                <a:solidFill>
                  <a:srgbClr val="000000"/>
                </a:solidFill>
                <a:latin typeface="Arial"/>
              </a:rPr>
              <a:t> †</a:t>
            </a:r>
            <a:r>
              <a:rPr b="0" lang="pt-PT" sz="2400" spc="-1" strike="noStrike">
                <a:solidFill>
                  <a:srgbClr val="000000"/>
                </a:solidFill>
                <a:latin typeface="Arial"/>
              </a:rPr>
              <a:t> </a:t>
            </a:r>
            <a:br>
              <a:rPr sz="2400"/>
            </a:br>
            <a:r>
              <a:rPr b="0" lang="pt-PT" sz="2400" spc="-1" strike="noStrike">
                <a:solidFill>
                  <a:srgbClr val="000000"/>
                </a:solidFill>
                <a:latin typeface="Arial"/>
              </a:rPr>
              <a:t>(Risco Elevado vs. Baixo Risco)</a:t>
            </a:r>
            <a:endParaRPr b="0" lang="en-US" sz="24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Risco Elevad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osição da membrana percutânea ou mucosa a sangue ou fluídos corporais de um doente com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da pele com, ou exposição a sangue ou fluídos corporais de, um doente confirmado ou suspeito de EVD sem um equipamento de protecção pessoal (EPP) apropri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ocessar sangue ou fluídos corporais de um doente confirmado de EVD sem EPP apropriado ou sem precauções convencionais de biosseguranç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com um cadáver sem EPP apropriado num país onde está a ocorrer um surto de EVD</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aixo Risc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omiciliário com um doente de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próximo com doentes de EVD em unidades de saúde ou contextos comunitário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Estar aproximadamente a 1 metro de um doente com EVD ou dentro do quarto ou área de cuidados do doente durante um período prolongado de tempo (por exemplo, funcionários dos cuidados de saúde, membros do agregado familiar) sem utilizar equipamento de protecção pessoal recomendado. </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Ter contacto directo breve (por exemplo, apertar as mãos) com um doente de EVD sem utilizar equipamento de protecção pessoal recomendado. </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274680"/>
            <a:ext cx="8713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Três categorias de casos de EVD</a:t>
            </a:r>
            <a:endParaRPr b="0" lang="en-US" sz="44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suspeito: uma pessoa, morta ou viva, com pelo menos um d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hemorragi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morte súbita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contacto com:</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caso de EVD suspeito, provável ou confirmado</a:t>
            </a:r>
            <a:endParaRPr b="0" lang="en-US" sz="1100" spc="-1" strike="noStrike">
              <a:solidFill>
                <a:srgbClr val="000000"/>
              </a:solidFill>
              <a:latin typeface="Arial"/>
            </a:endParaRPr>
          </a:p>
          <a:p>
            <a:pPr lvl="2" marL="1143000" indent="-228600">
              <a:lnSpc>
                <a:spcPct val="8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ou</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animal doente ou morto</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pelo menos três dos seguintes sintoma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de cabeç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Anorexia / perda de apeti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Letarg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s músculos ou articulaçõ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s em respira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Vómit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arre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 estômago</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 em engoli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Soluç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provável: qualquer caso suspeito que cumpra 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do por um médico e diagnosticado com EVD</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O caso faleceu mas com uma ligação epidemiológica a um caso confirmado</a:t>
            </a:r>
            <a:br>
              <a:rPr sz="1300"/>
            </a:br>
            <a:r>
              <a:rPr b="0" lang="pt-PT"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confirmado:</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Qualquer caso suspeito ou provável com um resultado laboratorial de EVD positivo (PCR ou serolo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PARATIVOS</a:t>
            </a:r>
            <a:endParaRPr b="0" lang="en-US" sz="4000" spc="-1" strike="noStrike">
              <a:solidFill>
                <a:srgbClr val="000000"/>
              </a:solidFill>
              <a:latin typeface="Arial"/>
            </a:endParaRPr>
          </a:p>
        </p:txBody>
      </p:sp>
      <p:sp>
        <p:nvSpPr>
          <p:cNvPr id="113"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1:44:14Z</dcterms:modified>
  <cp:revision>214</cp:revision>
  <dc:subject/>
  <dc:title>DPC Training and Technical Update</dc:title>
</cp:coreProperties>
</file>